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C46F-03C2-419D-8FEF-925B78202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548D-0D66-4627-92CD-DF998A30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805D-C9C4-4D3A-B812-C1F8A8B3D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BC9E-716B-4EF6-838A-5B893F81D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C1CF-0808-4F5E-968E-64BD6A52A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51C7-4F16-4B9B-8902-2F4C1BDF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4427-CCE2-445B-88FB-5FB48E24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2C69-8A4E-488C-8992-FA4E839D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9C05D-5ADA-46C4-A648-71DFF112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7207-7538-46BB-B701-C56F70D2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29AD-DEBA-40D9-AFAF-B30E63E8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669D-34A9-4D21-8EB4-9A68A181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7A19-60D0-43FD-8924-774E2961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38BE-F4F7-41AC-9213-4714A10E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6877-2107-420A-8F81-C5178B28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FA89-498F-41CE-B17B-41C7DF2D6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AC53-B67C-4E87-9777-FEA14EA83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F1C2-B252-421D-9C3E-56FE31AE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2447-D7B7-4A13-B336-DC448704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01C0-4145-4D4C-861C-56553375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4B6C-F703-4D01-8FEB-85E3B0DB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50CE-6029-44CC-A3F5-9C761C01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365D-6663-4355-94E2-F373F290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3BD7-B53D-4395-8EE0-A50CBDB2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63D7-B344-4071-8D30-1EEBEAA604A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CB7B-23E5-48AD-A782-7172F45FDF8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In cate zile a fost creata lumea?</a:t>
            </a:r>
            <a:r>
              <a:rPr b="0" lang="ro-RO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86200" y="3505320"/>
            <a:ext cx="979560" cy="2971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715000" y="2895480"/>
            <a:ext cx="2362320" cy="1524240"/>
          </a:xfrm>
          <a:prstGeom prst="cloudCallout">
            <a:avLst>
              <a:gd name="adj1" fmla="val -92069"/>
              <a:gd name="adj2" fmla="val -5625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umnezeu este creat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301680"/>
            <a:ext cx="693108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…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i in ce mod</a:t>
            </a: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?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vrea s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ă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am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învăţ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14400" y="0"/>
            <a:ext cx="552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1376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unde intalnim relatari despre modul de creatie a lumii?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vrea s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ă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ş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 am 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învăţ</a:t>
                      </a: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62120" y="0"/>
            <a:ext cx="4269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laudia Cziprok</dc:creator>
  <dc:description/>
  <dc:language>en-US</dc:language>
  <cp:lastModifiedBy>owner</cp:lastModifiedBy>
  <dcterms:modified xsi:type="dcterms:W3CDTF">2009-09-07T08:57:15Z</dcterms:modified>
  <cp:revision>18</cp:revision>
  <dc:subject>Life with Internet</dc:subject>
  <dc:title>Know-Wonder-Learn Diagr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